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399288" cy="432006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291596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20000" y="23195880"/>
            <a:ext cx="291596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144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20000" y="2319588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561440" y="2319588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478960" y="1010880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7920" y="1010880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20000" y="2319588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1478960" y="2319588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21337920" y="23195880"/>
            <a:ext cx="938916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20000" y="10108800"/>
            <a:ext cx="2915964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538"/>
              </a:spcBef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2915964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1422972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1440" y="10108800"/>
            <a:ext cx="1422972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20000" y="1723680"/>
            <a:ext cx="29159640" cy="334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538"/>
              </a:spcBef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6561440" y="10108800"/>
            <a:ext cx="1422972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20000" y="2319588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14229720" cy="250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656144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561440" y="2319588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20000" y="1723680"/>
            <a:ext cx="2915964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238560"/>
                <a:tab algn="l" pos="6477120"/>
                <a:tab algn="l" pos="9715680"/>
              </a:tabLst>
            </a:pPr>
            <a:endParaRPr b="0" lang="en-US" sz="1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2000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561440" y="10108800"/>
            <a:ext cx="1422972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20000" y="23195880"/>
            <a:ext cx="291596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538"/>
              </a:spcBef>
              <a:buNone/>
              <a:tabLst>
                <a:tab algn="l" pos="3238560"/>
                <a:tab algn="l" pos="6477120"/>
                <a:tab algn="l" pos="9715680"/>
              </a:tabLst>
            </a:pP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1"/>
          <p:cNvSpPr/>
          <p:nvPr/>
        </p:nvSpPr>
        <p:spPr>
          <a:xfrm>
            <a:off x="0" y="0"/>
            <a:ext cx="32399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627360"/>
                <a:tab algn="l" pos="7254720"/>
                <a:tab algn="l" pos="10882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ângulo 6"/>
          <p:cNvSpPr/>
          <p:nvPr/>
        </p:nvSpPr>
        <p:spPr>
          <a:xfrm>
            <a:off x="0" y="39600360"/>
            <a:ext cx="32399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627360"/>
                <a:tab algn="l" pos="7254720"/>
                <a:tab algn="l" pos="1088244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ector reto 8"/>
          <p:cNvSpPr/>
          <p:nvPr/>
        </p:nvSpPr>
        <p:spPr>
          <a:xfrm flipV="1">
            <a:off x="0" y="40352760"/>
            <a:ext cx="32399280" cy="15840"/>
          </a:xfrm>
          <a:prstGeom prst="line">
            <a:avLst/>
          </a:prstGeom>
          <a:ln w="127080">
            <a:solidFill>
              <a:srgbClr val="fcb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Conector reto 9"/>
          <p:cNvSpPr/>
          <p:nvPr/>
        </p:nvSpPr>
        <p:spPr>
          <a:xfrm flipV="1">
            <a:off x="0" y="40463280"/>
            <a:ext cx="32399280" cy="16200"/>
          </a:xfrm>
          <a:prstGeom prst="line">
            <a:avLst/>
          </a:prstGeom>
          <a:ln w="127080">
            <a:solidFill>
              <a:srgbClr val="64c4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ector reto 10"/>
          <p:cNvSpPr/>
          <p:nvPr/>
        </p:nvSpPr>
        <p:spPr>
          <a:xfrm flipV="1">
            <a:off x="0" y="40579560"/>
            <a:ext cx="32399280" cy="14400"/>
          </a:xfrm>
          <a:prstGeom prst="line">
            <a:avLst/>
          </a:prstGeom>
          <a:ln w="127080">
            <a:solidFill>
              <a:srgbClr val="109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m 2" descr=""/>
          <p:cNvPicPr/>
          <p:nvPr/>
        </p:nvPicPr>
        <p:blipFill>
          <a:blip r:embed="rId2"/>
          <a:srcRect l="0" t="0" r="720" b="0"/>
          <a:stretch/>
        </p:blipFill>
        <p:spPr>
          <a:xfrm>
            <a:off x="595440" y="4524480"/>
            <a:ext cx="31208400" cy="35729640"/>
          </a:xfrm>
          <a:prstGeom prst="rect">
            <a:avLst/>
          </a:prstGeom>
          <a:ln w="0">
            <a:noFill/>
          </a:ln>
        </p:spPr>
      </p:pic>
      <p:pic>
        <p:nvPicPr>
          <p:cNvPr id="6" name="Imagem 19" descr=""/>
          <p:cNvPicPr/>
          <p:nvPr/>
        </p:nvPicPr>
        <p:blipFill>
          <a:blip r:embed="rId3"/>
          <a:stretch/>
        </p:blipFill>
        <p:spPr>
          <a:xfrm>
            <a:off x="29800440" y="41060520"/>
            <a:ext cx="1673280" cy="1673280"/>
          </a:xfrm>
          <a:prstGeom prst="rect">
            <a:avLst/>
          </a:prstGeom>
          <a:ln w="0">
            <a:noFill/>
          </a:ln>
        </p:spPr>
      </p:pic>
      <p:sp>
        <p:nvSpPr>
          <p:cNvPr id="7" name="CaixaDeTexto 20"/>
          <p:cNvSpPr/>
          <p:nvPr/>
        </p:nvSpPr>
        <p:spPr>
          <a:xfrm rot="16200000">
            <a:off x="28654560" y="41591880"/>
            <a:ext cx="167328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27360"/>
                <a:tab algn="l" pos="7254720"/>
                <a:tab algn="l" pos="108824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site a FORP na Intern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agem 15" descr=""/>
          <p:cNvPicPr/>
          <p:nvPr/>
        </p:nvPicPr>
        <p:blipFill>
          <a:blip r:embed="rId4"/>
          <a:stretch/>
        </p:blipFill>
        <p:spPr>
          <a:xfrm>
            <a:off x="25323840" y="1333440"/>
            <a:ext cx="6480000" cy="1857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E:\Paineis_Variados_FORP\Arquivo_Refugo\brasao alta.jpg"/>
          <p:cNvPicPr/>
          <p:nvPr/>
        </p:nvPicPr>
        <p:blipFill>
          <a:blip r:embed="rId5"/>
          <a:stretch/>
        </p:blipFill>
        <p:spPr>
          <a:xfrm>
            <a:off x="595440" y="190440"/>
            <a:ext cx="3922560" cy="41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5T11:21:57Z</dcterms:created>
  <dc:creator/>
  <dc:description/>
  <dc:language>en-US</dc:language>
  <cp:lastModifiedBy/>
  <cp:lastPrinted>2017-03-06T18:28:53Z</cp:lastPrinted>
  <dcterms:modified xsi:type="dcterms:W3CDTF">2017-06-28T18:32:20Z</dcterms:modified>
  <cp:revision>17</cp:revision>
  <dc:subject/>
  <dc:title/>
</cp:coreProperties>
</file>