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399288" cy="43200638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19640" y="1723680"/>
            <a:ext cx="29158920" cy="72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71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19640" y="10108800"/>
            <a:ext cx="29158920" cy="11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99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619640" y="23196240"/>
            <a:ext cx="29158920" cy="11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992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19640" y="1723680"/>
            <a:ext cx="29158920" cy="72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71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19640" y="10108800"/>
            <a:ext cx="14229360" cy="11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99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560720" y="10108800"/>
            <a:ext cx="14229360" cy="11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99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619640" y="23196240"/>
            <a:ext cx="14229360" cy="11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99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560720" y="23196240"/>
            <a:ext cx="14229360" cy="11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992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19640" y="1723680"/>
            <a:ext cx="29158920" cy="72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71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619640" y="10108800"/>
            <a:ext cx="9388800" cy="11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99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1478240" y="10108800"/>
            <a:ext cx="9388800" cy="11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99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6840" y="10108800"/>
            <a:ext cx="9388800" cy="11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99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619640" y="23196240"/>
            <a:ext cx="9388800" cy="11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99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11478240" y="23196240"/>
            <a:ext cx="9388800" cy="11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99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21336840" y="23196240"/>
            <a:ext cx="9388800" cy="11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992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19640" y="1723680"/>
            <a:ext cx="29158920" cy="72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71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619640" y="10108800"/>
            <a:ext cx="29158920" cy="250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19640" y="1723680"/>
            <a:ext cx="29158920" cy="72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71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19640" y="10108800"/>
            <a:ext cx="29158920" cy="250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992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9640" y="1723680"/>
            <a:ext cx="29158920" cy="72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71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19640" y="10108800"/>
            <a:ext cx="14229360" cy="250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99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60720" y="10108800"/>
            <a:ext cx="14229360" cy="250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992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19640" y="1723680"/>
            <a:ext cx="29158920" cy="72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715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619640" y="1723680"/>
            <a:ext cx="29158920" cy="334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19640" y="1723680"/>
            <a:ext cx="29158920" cy="72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71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19640" y="10108800"/>
            <a:ext cx="14229360" cy="11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99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6560720" y="10108800"/>
            <a:ext cx="14229360" cy="250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99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619640" y="23196240"/>
            <a:ext cx="14229360" cy="11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992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19640" y="1723680"/>
            <a:ext cx="29158920" cy="72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71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19640" y="10108800"/>
            <a:ext cx="14229360" cy="250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99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6560720" y="10108800"/>
            <a:ext cx="14229360" cy="11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99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560720" y="23196240"/>
            <a:ext cx="14229360" cy="11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992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19640" y="1723680"/>
            <a:ext cx="29158920" cy="72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71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19640" y="10108800"/>
            <a:ext cx="14229360" cy="11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99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560720" y="10108800"/>
            <a:ext cx="14229360" cy="11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99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619640" y="23196240"/>
            <a:ext cx="29158920" cy="11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992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ângulo 1"/>
          <p:cNvSpPr/>
          <p:nvPr/>
        </p:nvSpPr>
        <p:spPr>
          <a:xfrm>
            <a:off x="0" y="0"/>
            <a:ext cx="32398920" cy="5399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71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" name="Retângulo 6"/>
          <p:cNvSpPr/>
          <p:nvPr/>
        </p:nvSpPr>
        <p:spPr>
          <a:xfrm>
            <a:off x="0" y="39600720"/>
            <a:ext cx="32398920" cy="3599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715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" name="Conector reto 8"/>
          <p:cNvCxnSpPr/>
          <p:nvPr/>
        </p:nvCxnSpPr>
        <p:spPr>
          <a:xfrm flipV="1">
            <a:off x="0" y="40353120"/>
            <a:ext cx="32399640" cy="15840"/>
          </a:xfrm>
          <a:prstGeom prst="straightConnector1">
            <a:avLst/>
          </a:prstGeom>
          <a:ln w="127000">
            <a:solidFill>
              <a:srgbClr val="fcb421"/>
            </a:solidFill>
          </a:ln>
        </p:spPr>
      </p:cxnSp>
      <p:cxnSp>
        <p:nvCxnSpPr>
          <p:cNvPr id="3" name="Conector reto 9"/>
          <p:cNvCxnSpPr/>
          <p:nvPr/>
        </p:nvCxnSpPr>
        <p:spPr>
          <a:xfrm flipV="1">
            <a:off x="0" y="40464360"/>
            <a:ext cx="32399640" cy="15480"/>
          </a:xfrm>
          <a:prstGeom prst="straightConnector1">
            <a:avLst/>
          </a:prstGeom>
          <a:ln w="127000">
            <a:solidFill>
              <a:srgbClr val="64c4d2"/>
            </a:solidFill>
          </a:ln>
        </p:spPr>
      </p:cxnSp>
      <p:cxnSp>
        <p:nvCxnSpPr>
          <p:cNvPr id="4" name="Conector reto 10"/>
          <p:cNvCxnSpPr/>
          <p:nvPr/>
        </p:nvCxnSpPr>
        <p:spPr>
          <a:xfrm flipV="1">
            <a:off x="0" y="40578840"/>
            <a:ext cx="32399640" cy="15480"/>
          </a:xfrm>
          <a:prstGeom prst="straightConnector1">
            <a:avLst/>
          </a:prstGeom>
          <a:ln w="127000">
            <a:solidFill>
              <a:srgbClr val="1094ab"/>
            </a:solidFill>
          </a:ln>
        </p:spPr>
      </p:cxnSp>
      <p:pic>
        <p:nvPicPr>
          <p:cNvPr id="5" name="Imagem 2" descr=""/>
          <p:cNvPicPr/>
          <p:nvPr/>
        </p:nvPicPr>
        <p:blipFill>
          <a:blip r:embed="rId2"/>
          <a:srcRect l="0" t="0" r="720" b="0"/>
          <a:stretch/>
        </p:blipFill>
        <p:spPr>
          <a:xfrm>
            <a:off x="594720" y="4523760"/>
            <a:ext cx="31209480" cy="35730000"/>
          </a:xfrm>
          <a:prstGeom prst="rect">
            <a:avLst/>
          </a:prstGeom>
          <a:ln w="0">
            <a:noFill/>
          </a:ln>
        </p:spPr>
      </p:pic>
      <p:pic>
        <p:nvPicPr>
          <p:cNvPr id="6" name="Imagem 19" descr=""/>
          <p:cNvPicPr/>
          <p:nvPr/>
        </p:nvPicPr>
        <p:blipFill>
          <a:blip r:embed="rId3"/>
          <a:stretch/>
        </p:blipFill>
        <p:spPr>
          <a:xfrm>
            <a:off x="29801160" y="41061240"/>
            <a:ext cx="1672200" cy="1672200"/>
          </a:xfrm>
          <a:prstGeom prst="rect">
            <a:avLst/>
          </a:prstGeom>
          <a:ln w="0">
            <a:noFill/>
          </a:ln>
        </p:spPr>
      </p:pic>
      <p:sp>
        <p:nvSpPr>
          <p:cNvPr id="7" name="CaixaDeTexto 20"/>
          <p:cNvSpPr/>
          <p:nvPr/>
        </p:nvSpPr>
        <p:spPr>
          <a:xfrm rot="16200000">
            <a:off x="28654560" y="41592600"/>
            <a:ext cx="1672200" cy="6102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Visite a FORP na Interne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Imagem 15" descr=""/>
          <p:cNvPicPr/>
          <p:nvPr/>
        </p:nvPicPr>
        <p:blipFill>
          <a:blip r:embed="rId4"/>
          <a:stretch/>
        </p:blipFill>
        <p:spPr>
          <a:xfrm>
            <a:off x="594720" y="1333440"/>
            <a:ext cx="6480000" cy="1856880"/>
          </a:xfrm>
          <a:prstGeom prst="rect">
            <a:avLst/>
          </a:prstGeom>
          <a:ln w="0">
            <a:noFill/>
          </a:ln>
        </p:spPr>
      </p:pic>
      <p:sp>
        <p:nvSpPr>
          <p:cNvPr id="9" name="Retângulo 21"/>
          <p:cNvSpPr/>
          <p:nvPr/>
        </p:nvSpPr>
        <p:spPr>
          <a:xfrm>
            <a:off x="28825200" y="239760"/>
            <a:ext cx="2903760" cy="40442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pt-BR" sz="7150" spc="-1" strike="noStrike">
                <a:solidFill>
                  <a:srgbClr val="000000"/>
                </a:solidFill>
                <a:latin typeface="Calibri"/>
              </a:rPr>
              <a:t>FOTO</a:t>
            </a:r>
            <a:endParaRPr b="0" lang="en-US" sz="71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ema do Office">
  <a:themeElements>
    <a:clrScheme name="Tema do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  <Words>0</Words>
  <Paragraphs>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5T11:21:57Z</dcterms:created>
  <dc:creator>Luciano Finco</dc:creator>
  <dc:description/>
  <dc:language>en-US</dc:language>
  <cp:lastModifiedBy>Luciano Finco</cp:lastModifiedBy>
  <cp:lastPrinted>2017-03-06T18:28:53Z</cp:lastPrinted>
  <dcterms:modified xsi:type="dcterms:W3CDTF">2017-06-28T18:32:12Z</dcterms:modified>
  <cp:revision>14</cp:revision>
  <dc:subject/>
  <dc:title>Apresentação do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Personalizar</vt:lpwstr>
  </property>
  <property fmtid="{D5CDD505-2E9C-101B-9397-08002B2CF9AE}" pid="3" name="Slides">
    <vt:r8>1</vt:r8>
  </property>
</Properties>
</file>